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06F-EDC0-4293-8E57-F7FB2CE9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EE1-3DDC-4656-B1CD-0CD0034D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C3603-93B7-4851-BB6B-BE3F47B9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B017B-28E3-4537-AE91-0716D316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E0D5C-4BA1-4151-8534-1BEB0D6E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2E82E-3687-4CB1-99D0-88B9B58C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9672B-E871-4E35-9E23-3144BEE0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D1B18-D6DA-4627-9BBB-D1CFB707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EB7D7-2479-47F3-9343-EA4514DF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722BA-FA91-4966-905D-2A9DCDE2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19637-CA85-452D-9260-C7034E66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EBA1E-4C72-479C-A732-DBC19C02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665B-D948-4F07-B317-68E71C75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0AA5E-0B19-4DCB-9A10-7A15CBE0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E2BF0-C035-41F3-AED4-CEC0B2FE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B0CF2-AFCB-491E-9E3B-346E25E9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D2952-5175-4590-9855-0FAEA721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E8CAD-FF89-43B5-A073-418646F9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52F4E-460F-4522-8C04-B596AD91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DE2E2-0770-4BEA-A770-667398C3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CFCA0-B61F-4169-BF6E-D832651E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3AEEE-D761-41BA-8291-F41B3244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DC1BA-070F-4B3B-9EA8-99C2B93A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BEE-92E8-4B22-88CC-DD3C8B04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1F249-BA04-4346-84A8-E10952F3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5BD1E-0A67-4C57-8B8A-CC7C339E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5BFB0-A7B4-416A-92A3-E8248D3B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6C43B-138F-459D-9F7E-E374B39B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CEE12-12D9-48AC-A6AB-5BA9FCD1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DF31B-DA28-4335-BB58-F7EA06E1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A7562-847F-4C41-B1B2-5E7C3C47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CA15B-671D-42DA-8A4B-DAE1538D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46434-BE77-4CE5-A972-C42FD78D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A2735-C548-4CC6-8012-BE76CA60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72A2-29D8-4091-84D5-8901CEB3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537F1-F91D-4523-BBF5-4482B372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5CC6B-4E69-4C7C-B8A6-F92AB82D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E60CB-BBA0-4BD6-8669-3BB6B53E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DE1F1-DD83-49CD-97AA-8E2F8057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FD002-834E-44DF-ABA7-E3F78751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78CA9-2E10-43E8-A900-FB266901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0C630-C932-4F64-8BE5-EBF0AEB4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98208-E0AB-45F6-9D7D-685A13CD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65966-1A41-4957-B8DA-02ED3FBA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4DB80-1AE0-421A-A432-2E6C4D81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041E-5EA8-41F4-B9D5-9B99D849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D6D4F-A1CC-42E8-8C6A-CF6FA86C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6FB17-E2BB-467F-A937-8E94E283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8AAAA-EE9F-4EB4-82C6-E04DA1E3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FC6BA-00D6-4C55-A9DE-A62A03B7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8797D-1118-4300-9D80-7F20CDEC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D5414-AC7E-40AF-A134-75A2CC2E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273DC-B686-4888-AF73-F693AFB4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2B64E-56D4-43C8-B593-D13BCF8C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CC027-D108-48D1-ABEB-BBA3A025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9EC55-760B-4BCF-BE64-C40591E1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3FEC-BA4D-4CE5-92EF-73EB72B1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A7C67-A32E-4A1B-9A17-CD1024E2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D3BD5-5EC4-447E-9052-4B43B1BE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A6663-D09C-498F-BE1E-3E8A8FF6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C2256-ABBD-464C-85D4-A1693E1E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42749-961E-4B35-862C-E9ABFC74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29ABA-D017-4DF2-BFCB-9C0FD774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54BBC-7CBB-40FC-8013-5720FD61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A5AC1-0B2E-4B88-B5E8-EDE3EED9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9445B-A572-40DA-A177-D5317AC6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25557A-5B98-4F55-AF53-58FC01D2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1C51-3FFD-4E37-BBD6-63DF0FC7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3C38C-EE86-456E-8890-476A09C0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FE841-B15F-4342-9DE1-2663DB85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08F3F-60A7-4B1D-AB4D-B363D2F4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E07C5-156C-4280-8BF1-0F574928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AA18B-D719-4991-994D-5209A342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928774-721A-4C63-A3F2-BE8FFA16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90DE9-FE31-432D-8FED-1989AF46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249D0-1B04-4E66-97E6-E36DF029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215A6-E0ED-4C28-8EAF-BF963D3D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399DD6-68F3-4D78-94CC-11CBB973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1CD6-6870-460C-AAB1-517E5BF9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59211C-D009-4E3F-8095-7EF4F8F5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64D4A9-F0A4-4AF7-B747-8ED5CFA4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10483-FE30-4B1B-8092-4AC39011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AE11DD-DE95-409B-8E83-4D2489EF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84C27-1A83-444E-B137-9FB2F8CA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976EB-48E8-47C4-8DF9-BF7B7839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16D8E-5E3F-48F2-9BB0-271D9094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1CF8D8-9622-4730-8861-5FDA91D7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67EC0-F6C1-4A92-9F2B-1AA179DA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EAF2FD-B602-457E-B8C3-1EA0459A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F763-FE02-41AD-AE86-68D31789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B40310-A414-4A7C-9C14-39305820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4F77C-B531-457B-9154-4BDE582D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BF784-0DD9-475E-90B8-8D980273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DD0FB3-059D-4620-9758-35B340B1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E1ED04-F226-4EE1-842B-3E93920A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0DE7D-ED22-408D-8E59-D974E5E8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A791F7-4057-46EB-9413-E55E1CB4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A3175-BFD9-47C0-85BC-FC17DC46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0B354-F413-4B5C-A2F7-BCFB13AA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8F6F83-CB5C-43AD-9DAD-87886C56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4D27-EBB5-4667-9638-CBED4D51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BF6AF4-6E6F-44C6-8234-2513018B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BE0B24-2DE1-4314-80EB-1A3EFE85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C0393-DDFE-48C2-85D3-1226DF4C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BFE26A-7431-4067-8826-019ACD53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73155-DB4E-4C4C-B3ED-7490663B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7731B9-2C10-4F13-84E4-CBD956B2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C98FB9-651A-47C4-ACE9-56030146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A5269-3455-4898-BB75-C28262C9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C42607-A09B-4D45-82FF-F3B79AA4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2DCE08-F3D8-41B4-BBFC-14E94A9D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8D5-AF38-4661-AEF2-F94CDC02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2505-D5BE-460B-94AC-4CD7A1BC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193EA-0E97-4584-A206-45BB37C2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949F5-A529-46B4-BDCD-446789C6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02D32-CFB7-4D23-9D4D-2A1259A7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C16E5-3B82-41C4-980E-BD11C109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5B791-5FDB-422A-A000-B6A65CAD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2C8A94-2D6A-44EB-BC70-6675D927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0B4FEF-7131-4654-8849-F55020D2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977E7C-3122-462B-8655-C885063B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5300BA-6F52-4EF5-AEAD-258BE1C8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7089BA-01D0-4AA4-B121-15390079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5A73-5CDB-4C7A-84DC-FD95C5C8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BE723-9D1A-4E2F-AD9E-832FC299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D7BFEF-9814-463C-8E00-CDFD3620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59C16A-9E87-4450-8FD0-0F8C849E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57ACD1-6C08-48CE-B932-D1F4D2A3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FCFF86-048F-44F2-A8DB-BE4673E3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656B8E-7C2E-4210-AB3F-6E48C012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3AAAA5-BDF6-44F7-895B-17899B1F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D83E53-4755-4597-AC4E-D13F619F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012B4B-A625-4EEF-AE1D-3A34082D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044F83-ECD8-4C32-BB19-B41926F2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2D80-F116-4053-BED1-9358C4FD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692788-1028-4774-A50F-512BE5B3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4535C9-0DFE-4362-9697-0505A4AF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CAADF1-60EF-4384-B8EA-A6AAD9EE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42BDD0-3E4F-4E81-8B60-EA1FB1EC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47D6C0-5601-4EDB-999D-6A625D56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1C2CD8-6B0A-4F52-A4C0-7BD64F85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BFFAFE-C25A-4A0F-94A5-A89E1E7A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96A21B-27F2-4625-A226-4054E202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9AB270-D25E-4835-9E79-E459ED96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DB68AE-0A38-475F-9056-84E601A2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F486-EA3B-4ECD-ABC9-E5205124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A9714B-5802-418A-8245-7B5A8A44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170CEF-B4DE-4845-AA1D-1D84428F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896795-CD38-4E86-85D6-1B54ED32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A92F4A-7E46-46B4-94E7-8CD010C4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49AE19-EDBE-4A3C-BD27-FE29AF58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06F614-6AC3-4F25-ADF1-0CD5A324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FA8D90-0DE0-4364-B479-3342EE9F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76EC01-5370-4075-879D-E185A50F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B9BBE3-5C0D-4FE7-80B5-DE31DF1E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05BBC6-B414-41AD-8826-EFA63645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5E63-3731-4D6A-8C66-9BEEE3B2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87ED96-D510-4C63-AACA-6059EF8E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5251A7-19F0-44AF-BAEF-26D4692D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922A1C-5954-489F-8FFE-A0582A72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E833CB-11B6-4130-B651-E501EF01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A7F772-DA21-4DAC-AE73-845C622A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31742A-5559-4EB7-8BC4-9E8B98F7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F7527D-ED0F-4971-BF4A-2F4DC049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4DA410-D41E-485E-8726-3AB80D89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2525B1-75C3-4F71-96A5-D30B3503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B0CE0B-B6ED-4A2E-9C61-EA4C6110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FD63C-C998-4420-8B40-69529D11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13A862-531A-4EE7-AB44-C125C178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84128F-306D-4BFB-960F-69E6B4D9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EFC163-74C2-4CCE-962E-D7AD48F4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698B28-B134-43EA-802B-5B5BEA9F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1D2636-2D63-4755-8678-222C80BC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5785DA-D508-45B9-BD67-AD808400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89168D-B2AC-493D-9885-4A1D8CA5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6623D3-52C6-47D7-84B5-72B9B241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3FF895-E816-457C-8785-3FEF9DE8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FAD403-936F-488B-A02B-0C82B340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57A6-938E-430E-81AB-4BBFF5B8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C4EF4E-07D0-4785-90EC-EBDED3E5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B1DFE3-0511-497B-BA5B-B84213C8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6425E5-8B41-4C35-9743-C001F9C7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C19FEE-2BFA-4C06-811D-3B354230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176330-4503-4711-8189-2B3436B0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EFC0CA-A2C6-47A7-9F5F-AF093F48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B98892-E136-4630-B483-DD6D5F9B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794EAD-9245-4A3C-9E84-07CD9CE9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19DFE9-F5C8-42A7-B9F7-D64028D7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DFFC96-F3B8-4BA3-B59B-C3C965CF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21CB6-7F60-4706-9F8C-CA5E4E3F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A92FA4-3209-4915-9DC3-52C3FB9A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20C73C-8C67-4244-90B5-F3CF3675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B9D306-AE59-4213-9E64-01544427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B9252C-5CF7-4682-B229-E5C46914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54C0CF-D34C-482D-B6CC-202EAD65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35A2DD-EDD4-463B-920C-C18474C7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91933F-1F6B-4C4E-89D7-D5BE4E23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5DD5A-5F3F-4ECE-8F79-EC844116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75E26-E1E7-4F37-8344-010D36F5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A13-C2D1-441F-A811-22094FF3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B4FEE-68EB-40CD-90B1-BFD05BDD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945E2-5A2B-4958-929B-914FAA31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57867-CA25-4022-854B-44A199E5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956FA-A509-4B9A-9674-6C24C085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AEFBC-51D3-4CB5-9F4E-97A167B5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C66A2-2F6C-4247-8701-A9C006B4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B49FD-4968-471A-BE2B-81E3A994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3C682-3F5A-4629-B2DF-269D16CC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0BBE1-85BC-4CBE-B4B6-1447A6CD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B33FD-B593-42FB-B6E0-A3898E2F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7AE-FF1B-49E4-B65C-80CB5C6E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A8FDA-9F63-49B5-AA96-7B5A7038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B0459-FD5B-4A72-8ECA-4268AF69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F840D-0993-44A3-8EA0-0F7A386E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BE0E0-2FE6-4C0A-AE58-1F570ACF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C06C9-837E-4F13-9273-A1258FD9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3C605-A998-4AEE-AABF-A7145B4D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E9EEF-F0F8-4F3D-AD75-24E4E330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F2422-1421-4717-AFCF-CB117CEA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F4EFA-F2C9-4506-AF60-BC9CDE6E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37FF0-F8D2-4013-B0FC-DB5D461C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791-B798-409C-880F-757F152C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05972-9DF5-4247-9691-AAE4A215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4348C-9DED-422C-A86A-4956DEA4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97474-A068-4A10-BC76-AFC636F1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88056-91DF-4E61-AFC3-23B56AB4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8F868-3165-4A47-9431-02D36B60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5B5A8-79E8-4BF4-A2E1-E43B6216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2AC04-73ED-4AF0-8371-90C74A42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52155-C10F-45AA-8831-41F38BBE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8E38A-35B8-4497-BE51-759D9D71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0E1EF-2F47-4B79-A0B5-C0DFDC4B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02C-E43D-4D7A-A284-3796242C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608C6-A453-4B94-A046-9FC30CDC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3CB38-0934-4332-BA0E-61204299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84087-605D-4052-A2D7-261299A1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DFAD0-EB15-4313-ACDD-2AA33599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D0607-7B19-4E28-BCBA-7E2EFC86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52F9B-67D9-4CB4-8B4F-9CFAB0B9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E06E6-F868-49D1-B408-DD35ED4D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0A3EB-D13E-4A13-93DF-F9F29A00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44F4F-4F7F-458E-BE06-5E42D8BC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9EC3E-3DCC-408A-9EE4-11ABB2BC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9F2-A361-4F1E-A8FB-C3236075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A7C95-8EEF-4BC6-A0D0-339097F7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8CB65-9915-4E7D-9E20-8FFF2FE8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AAE4B-76AC-47C9-B8FF-46F27862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B7DA2-EB73-41F8-B4D3-6917E178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86764-FEF2-4504-B9D2-5278893C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817C5-BD99-4876-9FA9-17B8D8D9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7FDF3-417A-4053-8587-998BBA77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BCF2A-4612-449D-BCD9-8E6C19E4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71C19-24A0-4ED5-A674-E9C7ECDB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3764C-7222-4B8A-9E4F-F34B9C3B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A9E-6512-4CE5-81E8-A8ADC332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1A4AB-2988-4AEE-A82B-F21A5355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16567-BC6D-4FB9-AADD-A8730AFF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25745-406A-4690-872D-F9B43EC2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6D9FF-267E-4118-A4FF-7692ADEC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B9F2F-2A0A-4B26-998A-908E288B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92998-FA8E-4344-A938-75174242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F0B55-117A-4B29-A718-CC1CC31C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6EFE3-649B-4064-B9FE-3E30AD02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6A8CD-E2E7-4416-9D70-2534F51B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2CDE1-5D86-4484-BB24-36A58329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A75-31F1-4DB1-AD4A-19DCC796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C7B30-C3F3-46BE-99CD-E2D9AD0F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8119E-CDE2-49D8-842E-024CD8CC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704C6-5E91-4E28-ABBA-C2B7A04D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B9E52-6442-4923-B713-A996C466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75FD2-5FC3-4408-8823-687E566A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6DAD3-1606-45C7-8699-90D48E8D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F857A-71BA-4088-8E62-9E09939F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28178-36E8-4280-84CF-D2914656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9E8CD-DB5B-49BE-BA0C-8D7CBECA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A6BD9-C525-4E06-BBBE-AD6F01B0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1B4A-E138-4265-BFAE-8DBDF47E89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88F9-A026-4D57-B530-527296DCB8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01C8-CA5E-4E57-A5A5-E13F6F007F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6401-B728-4E13-BB82-A9AA09EABB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C65F-5E4E-4BD5-938D-256473A5C6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9C27-3A69-4BEC-8AF3-B052C9D2E3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8232-681F-4D13-8ADB-E74D132AF4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22FC-304B-4DAE-8BEC-7BE924E575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D575-DBED-4D7A-A153-9EEC83DB94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745B-68B2-4323-A542-BECA238948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AE50-A24F-4DB9-AA9F-BA80BE3F83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14D8-27F6-4E1F-B05A-F48C80E955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A303-6B1E-4C3D-B7CB-DE5D81EC3B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2EBA-4CF3-4118-A525-1531B0AC40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6C85-48F3-479E-A33D-43A47074CA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60B6-A493-4158-A08B-073BF5DFEB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7BFB-8A6D-4ADD-B016-866F649D70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7C13-433E-4E6B-B69C-94A7F4FFF5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39B2-A46E-4C01-8314-3EAABE6D89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5A7E-EC4A-4799-B7D7-277C2FAC0C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48E7-6864-4A2F-A1C5-3DB5B32F30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BD71-926F-4BD7-B7E8-216FDB6514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E28B-809E-4BB3-8489-C18F0D0EC9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6926-F870-4301-A1AA-FD0F2B5D2A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431C-DFEF-4B97-8771-C63626409D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03B6-50A6-4B20-BF30-1BC266EBB2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4986-5BC3-41C4-A1AF-DA2B7ACADE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C8C0-0D22-457B-A357-20712B4338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C38E-F926-43D1-9778-5966FA079E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E6D0-34CD-49A3-A229-26CDE6057E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0A2A-CDAD-4E78-89AD-DD4D6C9A44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C1BC-E2D2-4155-AD9C-DCEB967CC0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BF59-73B3-417A-8020-6D7BD0494A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F0BC-7855-4C04-A687-3A7B170D48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7B90-D16F-4BF8-8032-5DF202EF5F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36EC-A3D4-4BA8-8996-0FF85C8190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3217-CD04-40E7-98D1-D964A7F548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EFDD-FB87-4C6B-9910-C3A42963EF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1097-6733-4C4D-8380-A9DD9122FD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F23B-BFA5-42E5-91E3-EDC078E58C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FBAA-C3CB-4C92-A26B-CA9933EB9F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C37F-07D8-4FFD-84FD-3D080D2A6B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295280" y="3043080"/>
            <a:ext cx="655344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262080" y="2328840"/>
            <a:ext cx="8618400" cy="22003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684360" y="2378160"/>
            <a:ext cx="433080" cy="3524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433440" cy="3524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684360" y="3500280"/>
            <a:ext cx="433080" cy="3524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5"/>
          <a:stretch/>
        </p:blipFill>
        <p:spPr>
          <a:xfrm>
            <a:off x="684360" y="4048200"/>
            <a:ext cx="433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图片 1" descr=""/>
          <p:cNvPicPr/>
          <p:nvPr/>
        </p:nvPicPr>
        <p:blipFill>
          <a:blip r:embed="rId1"/>
          <a:stretch/>
        </p:blipFill>
        <p:spPr>
          <a:xfrm>
            <a:off x="200160" y="880920"/>
            <a:ext cx="8743680" cy="54086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2"/>
          <a:stretch/>
        </p:blipFill>
        <p:spPr>
          <a:xfrm>
            <a:off x="2556000" y="2550960"/>
            <a:ext cx="1511280" cy="40968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1511280" cy="40968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4"/>
          <a:stretch/>
        </p:blipFill>
        <p:spPr>
          <a:xfrm>
            <a:off x="1332000" y="3127320"/>
            <a:ext cx="1511280" cy="4096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5"/>
          <a:stretch/>
        </p:blipFill>
        <p:spPr>
          <a:xfrm>
            <a:off x="5508720" y="3111480"/>
            <a:ext cx="1511280" cy="4096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6"/>
          <a:stretch/>
        </p:blipFill>
        <p:spPr>
          <a:xfrm>
            <a:off x="2340000" y="4221000"/>
            <a:ext cx="3168720" cy="40968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7"/>
          <a:stretch/>
        </p:blipFill>
        <p:spPr>
          <a:xfrm>
            <a:off x="324000" y="4782960"/>
            <a:ext cx="1511280" cy="40968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8"/>
          <a:stretch/>
        </p:blipFill>
        <p:spPr>
          <a:xfrm>
            <a:off x="3851280" y="4768920"/>
            <a:ext cx="1511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图片 1" descr=""/>
          <p:cNvPicPr/>
          <p:nvPr/>
        </p:nvPicPr>
        <p:blipFill>
          <a:blip r:embed="rId1"/>
          <a:stretch/>
        </p:blipFill>
        <p:spPr>
          <a:xfrm>
            <a:off x="142920" y="952560"/>
            <a:ext cx="8858160" cy="49528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2"/>
          <a:stretch/>
        </p:blipFill>
        <p:spPr>
          <a:xfrm>
            <a:off x="2484360" y="981000"/>
            <a:ext cx="1295640" cy="4096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3"/>
          <a:stretch/>
        </p:blipFill>
        <p:spPr>
          <a:xfrm>
            <a:off x="7596360" y="3170160"/>
            <a:ext cx="1295280" cy="4096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4"/>
          <a:stretch/>
        </p:blipFill>
        <p:spPr>
          <a:xfrm>
            <a:off x="250920" y="3730680"/>
            <a:ext cx="1008000" cy="4096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5"/>
          <a:stretch/>
        </p:blipFill>
        <p:spPr>
          <a:xfrm>
            <a:off x="6877080" y="4840200"/>
            <a:ext cx="1295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43000" y="1681200"/>
            <a:ext cx="8656560" cy="34956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4067280" y="2333520"/>
            <a:ext cx="1512720" cy="3524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5148360" y="2938320"/>
            <a:ext cx="1512720" cy="3524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2987640" y="3529080"/>
            <a:ext cx="1871640" cy="3524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059280" y="4148280"/>
            <a:ext cx="1512720" cy="3524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2771640" y="4724280"/>
            <a:ext cx="1224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1" descr=""/>
          <p:cNvPicPr/>
          <p:nvPr/>
        </p:nvPicPr>
        <p:blipFill>
          <a:blip r:embed="rId1"/>
          <a:stretch/>
        </p:blipFill>
        <p:spPr>
          <a:xfrm>
            <a:off x="214200" y="1138320"/>
            <a:ext cx="8713800" cy="45813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433080" cy="352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3"/>
          <a:stretch/>
        </p:blipFill>
        <p:spPr>
          <a:xfrm>
            <a:off x="611280" y="3573360"/>
            <a:ext cx="4334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233280" y="781200"/>
            <a:ext cx="8675640" cy="52956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539640" y="879480"/>
            <a:ext cx="433440" cy="352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611280" y="3270240"/>
            <a:ext cx="4334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图片 1" descr=""/>
          <p:cNvPicPr/>
          <p:nvPr/>
        </p:nvPicPr>
        <p:blipFill>
          <a:blip r:embed="rId1"/>
          <a:stretch/>
        </p:blipFill>
        <p:spPr>
          <a:xfrm>
            <a:off x="271440" y="1690560"/>
            <a:ext cx="8599680" cy="34768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2"/>
          <a:stretch/>
        </p:blipFill>
        <p:spPr>
          <a:xfrm>
            <a:off x="611280" y="1758960"/>
            <a:ext cx="4334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228600" y="1100160"/>
            <a:ext cx="8686800" cy="46576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3635280" y="2362320"/>
            <a:ext cx="2808360" cy="3524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900000" y="3544920"/>
            <a:ext cx="1295640" cy="3524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4932360" y="3529080"/>
            <a:ext cx="1079640" cy="3524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1258920" y="4710240"/>
            <a:ext cx="10796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1019160" y="2266920"/>
            <a:ext cx="7105680" cy="23241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3708360" y="2938320"/>
            <a:ext cx="503280" cy="3524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4716360" y="4121280"/>
            <a:ext cx="2880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235080" y="835200"/>
            <a:ext cx="867564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181080" y="1047600"/>
            <a:ext cx="8781840" cy="47628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2"/>
          <a:stretch/>
        </p:blipFill>
        <p:spPr>
          <a:xfrm>
            <a:off x="611280" y="5452920"/>
            <a:ext cx="4334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3:38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